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EC1-8EAA-497C-A942-ECDA2359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5E0-CA3C-401F-A661-3498613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E41-02C9-499F-BBAE-B87C592D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668-3F2C-40F4-93AB-CCB8BB6A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5F2D-2B55-4143-B58F-1919AD1D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0F77-4911-44E9-A847-A023AECA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F57-80D4-4299-B8FD-E7B0B101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2C8F-75F9-47CB-9DAD-A63D82F6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4001-C310-4655-B929-23A4BBD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BC2A-33AB-4E37-93F6-94F03685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EE3-D2A5-41B8-AAEB-54C87B2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E92-1B77-414A-A54C-603E7C7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37CB-E6AE-4098-B4C3-9CACA65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B86A-4411-43E1-BA1F-4AC7B85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E0E9-F8F9-4F84-B4AB-27146B8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72F4-551F-4D76-9852-6F0DD7E1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51B7-1354-40D7-8D52-EFC8F963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FF8-C72C-4BEB-B514-13801F9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BAD-8B9D-453E-9F01-8ACFACE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136-4997-431D-9CAB-B5549219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CFB-2070-4458-8B2C-BD13E22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633-2523-47CE-9567-597468C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287-5D24-421A-9A1B-C43BE77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F60-E5AF-42C0-93B5-D402B9E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CCA1-C4CF-4BCF-A6A7-3017F0C7267E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3283-8B62-46CB-861D-1D40CDFB2EF9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Times New Roman"/>
              </a:rPr>
              <a:t>Ce evaluăm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noştinţe, atitudini, aptitudini, deprinde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ă ştiu, dacă ştiu să facă, dacă ştiu cum să facă sau dacă ştiu cum vor aplica în viaţa reală ceea ce şti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tingerea obiectivelor legate de un anumit conţin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formanţele celui evalu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ropuse de către profes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e care şi le-au propus cei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ogram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todele folos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rganizarea procesului de învăţ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rviciile pe care le oferă instituţia în care se desfăşoară proces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zultatele (produsul) sau procesul în sine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1128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ONALIZAREA SISTEMULUI DE EVAL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500" spc="-1" strike="noStrike">
                <a:solidFill>
                  <a:srgbClr val="330033"/>
                </a:solidFill>
                <a:latin typeface="Times New Roman"/>
              </a:rPr>
              <a:t>De ce evaluăm?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celor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instrumente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metodelor, mijloacelor şi strategii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realizarea de selecţi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orectarea performanţe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utocontrolul propriilor capacităţi de pred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identificarea deficienţelor sau disfuncţionalităţilor la nivelul organizării unei unităţi şcol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optimizarea conţinuturi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i foloseşte evaluarea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evaluaţ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valuatorului (profesor, instituţi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ărinţ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actorilor de decizie şcolar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care fac un anumit tip de selecţie (angajări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Pe cine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individ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în raport cu grupul din care fac pa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grup, o clasă sau un lot de indivizi grupaţi după un criteriu anume, de exemplu o grupă de vârst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eşan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ând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începutul unui proces (evaluarea iniţial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timpul procesului (evaluare continuă sau formativ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sfârşitul unui proces sau al unei etape (evaluare sumativă sau final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m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ce met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tehnici şi procede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instru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onstat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o activitate instructivă s‑a derulat ori a avut loc în condiţii optime, o cunoştinţă a fost asimilată, o deprindere a fost achiziţionat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informa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a societăţ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prin diferite mijloace, privind stadiul şi evoluţia pregătirii populaţiei şco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dia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cauzelor care au condus la o slabă pregătire şi la o eficienţă scăzută a acţiunilor educa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pro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nevoilor şi disponibilităţilor viitoare ale elevilor sau ale instituţiilor de învăţămâ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continuare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6002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selecţi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 sau de deciz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supra poziţiei sau integrării unui elev într‑o ierarhie, într‑o formă sau într‑un nivel al pregătirii s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ertificar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care se recunoaşte statutul dobândit de către candidat în urma susţinerii unui examen sau a unei evaluări cu caracter normati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edagogi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în perspectiva elevului (motivaţională, stimulativă, de orientare şcolară şi profesională, de întărire a rezultatelor, de formare a unor abilităţi, de conştientizare a posibilităţilor) şi în perspectiva profesorului (pentru a şti ce a făcut şi ce are de realizat în contin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 Cucoş, Pedagogie, Polirom, Iaşi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. Cristea, Dicţionar de termeni pedagogici, Editura Didactică şi Pedagogică, R.A. - Bucureşti,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42:53Z</dcterms:created>
  <dc:creator>Adi</dc:creator>
  <dc:description/>
  <dc:language>en-US</dc:language>
  <cp:lastModifiedBy>ARDELEAN NORIN</cp:lastModifiedBy>
  <dcterms:modified xsi:type="dcterms:W3CDTF">2010-12-15T03:57:16Z</dcterms:modified>
  <cp:revision>5</cp:revision>
  <dc:subject/>
  <dc:title>Ce evaluăm?</dc:title>
</cp:coreProperties>
</file>